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21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346A-DF3A-4B11-8415-A78F802D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2E27-7E4B-4788-8B9C-A51DD57D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83AB-EC21-4F71-BE0B-19BFE5F1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BD02-9B5F-4D16-BCEC-0B4F3EBB8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7158C-8BBA-41CD-B4BC-FADF546D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72C36-7F39-4633-8E17-58C3558A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59A58-86F0-484D-BCB8-51DA754E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E2996-EC33-47CB-A074-7FEFE519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6725A-B32F-4D8D-8961-805AF6CB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7D62A-3A5B-4005-BA46-78377062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FBE7E-9002-4B5C-93BD-B01F1D1E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0690-93BA-4E96-8ACB-4CE62BD8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667F7-1FA5-45F3-8321-9A40391E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6E0E2-4928-4E36-B276-D08BF3E2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3C332-F0CB-46CD-A8EB-DDB10B1D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5499F-240C-40A1-B701-EF188BE6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4571B-4BA8-4470-9999-E82ADD91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1E74-FAA8-477D-A07B-631B34E6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5649-8CEA-4B29-9106-318209E5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EF72-C7EB-44F5-9512-2E7897B6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0DDB-E168-4326-90D9-F28D960A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B290-5655-4978-BCEC-CE41379E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A49-5A2D-486B-B04A-6614B361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9FB5-A6DE-4375-9A1F-B7AAD1D0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FC78-C000-4ABB-9A8F-076E2A3039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5A9A-9117-4E88-8ED8-144BD122AE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FQ:  What are the qualities of River Valley Civilizations?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L84(RR4)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520" y="21333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w:  Regents Practice Ques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result of the Neolithic Revolution was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1. an increase in the number of nomadic tribe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2. a reliance on hunting and gathering for food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3. the establishment of villages and the rise of government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4. a decrease in trade between cultural groups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dus Valley –Geography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ruled by Monsoons (seasonal weather storms that create mass amounts of rain and flooding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soons also create fertile l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530px-India_southwest_summer_monsoon_onset_map_en"/>
          <p:cNvPicPr/>
          <p:nvPr/>
        </p:nvPicPr>
        <p:blipFill>
          <a:blip r:embed="rId1"/>
          <a:stretch/>
        </p:blipFill>
        <p:spPr>
          <a:xfrm>
            <a:off x="4343400" y="3657600"/>
            <a:ext cx="4494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Government and Writing System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known to historia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recor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nskr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8" descr="question_mark_3d"/>
          <p:cNvPicPr/>
          <p:nvPr/>
        </p:nvPicPr>
        <p:blipFill>
          <a:blip r:embed="rId1"/>
          <a:stretch/>
        </p:blipFill>
        <p:spPr>
          <a:xfrm>
            <a:off x="1143000" y="2819520"/>
            <a:ext cx="1714680" cy="3319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1_458cd220d391e"/>
          <p:cNvPicPr/>
          <p:nvPr/>
        </p:nvPicPr>
        <p:blipFill>
          <a:blip r:embed="rId2"/>
          <a:stretch/>
        </p:blipFill>
        <p:spPr>
          <a:xfrm>
            <a:off x="4800600" y="2133720"/>
            <a:ext cx="301320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ligion and Social Structure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nduis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ytheis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incarn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14800" y="16002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te System (linked to religion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strict –no mo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image-hinduism"/>
          <p:cNvPicPr/>
          <p:nvPr/>
        </p:nvPicPr>
        <p:blipFill>
          <a:blip r:embed="rId1"/>
          <a:stretch/>
        </p:blipFill>
        <p:spPr>
          <a:xfrm>
            <a:off x="304920" y="3276720"/>
            <a:ext cx="3209760" cy="3581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Caste%20System%20Diagram%2006"/>
          <p:cNvPicPr/>
          <p:nvPr/>
        </p:nvPicPr>
        <p:blipFill>
          <a:blip r:embed="rId2"/>
          <a:stretch/>
        </p:blipFill>
        <p:spPr>
          <a:xfrm>
            <a:off x="4343400" y="3057480"/>
            <a:ext cx="42386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Yellow River Valley –Geography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ed in Chi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fertile soil called lo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5" descr="Yellow_River"/>
          <p:cNvPicPr/>
          <p:nvPr/>
        </p:nvPicPr>
        <p:blipFill>
          <a:blip r:embed="rId1"/>
          <a:stretch/>
        </p:blipFill>
        <p:spPr>
          <a:xfrm>
            <a:off x="1905120" y="2798640"/>
            <a:ext cx="458604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Government and Writing System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ng Dynas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eror as lead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date of Heaven”- ruler gets power from the heave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igrap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characters for words and soun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8" descr="qindynasty2"/>
          <p:cNvPicPr/>
          <p:nvPr/>
        </p:nvPicPr>
        <p:blipFill>
          <a:blip r:embed="rId1"/>
          <a:stretch/>
        </p:blipFill>
        <p:spPr>
          <a:xfrm>
            <a:off x="304920" y="3973680"/>
            <a:ext cx="3352680" cy="2884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chinese_calligraphy"/>
          <p:cNvPicPr/>
          <p:nvPr/>
        </p:nvPicPr>
        <p:blipFill>
          <a:blip r:embed="rId2"/>
          <a:stretch/>
        </p:blipFill>
        <p:spPr>
          <a:xfrm>
            <a:off x="4876920" y="3200400"/>
            <a:ext cx="2857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ligion and Social Structu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ytheis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ing and Yang –balancing opposing sides of the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eror at the 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ests and Warr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sants and farm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8" descr="ying_yang"/>
          <p:cNvPicPr/>
          <p:nvPr/>
        </p:nvPicPr>
        <p:blipFill>
          <a:blip r:embed="rId1"/>
          <a:stretch/>
        </p:blipFill>
        <p:spPr>
          <a:xfrm>
            <a:off x="685800" y="3505320"/>
            <a:ext cx="273852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hy did ancient people settle near river valleys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sh water (basic nee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soil for farming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BIGnile-river-valley"/>
          <p:cNvPicPr/>
          <p:nvPr/>
        </p:nvPicPr>
        <p:blipFill>
          <a:blip r:embed="rId1"/>
          <a:stretch/>
        </p:blipFill>
        <p:spPr>
          <a:xfrm>
            <a:off x="1676520" y="3114720"/>
            <a:ext cx="47624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hat are the negatives to settling near a river valley?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oding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occurs on a pattern based on weather.  Some places 3-5 times a yea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05flood"/>
          <p:cNvPicPr/>
          <p:nvPr/>
        </p:nvPicPr>
        <p:blipFill>
          <a:blip r:embed="rId1"/>
          <a:stretch/>
        </p:blipFill>
        <p:spPr>
          <a:xfrm>
            <a:off x="1600200" y="3733920"/>
            <a:ext cx="5715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esopotamia/ Sumeria 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Geography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rtile Crescent –Between the Tigris and Euphrates riv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vers flooding created silt which made very good soi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fertile1"/>
          <p:cNvPicPr/>
          <p:nvPr/>
        </p:nvPicPr>
        <p:blipFill>
          <a:blip r:embed="rId1"/>
          <a:stretch/>
        </p:blipFill>
        <p:spPr>
          <a:xfrm>
            <a:off x="3886200" y="3322800"/>
            <a:ext cx="472428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Government and Social Structur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-States:  each portion allowed to establish l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murabi:  created Hammurabi’s Code (first written laws)  “Eye for an Ey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est and nobles at the top of social pyram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mers and workers at the botto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Hammurabi_Code"/>
          <p:cNvPicPr/>
          <p:nvPr/>
        </p:nvPicPr>
        <p:blipFill>
          <a:blip r:embed="rId1"/>
          <a:stretch/>
        </p:blipFill>
        <p:spPr>
          <a:xfrm>
            <a:off x="1447920" y="4724280"/>
            <a:ext cx="16412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riting System and Religion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neifor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cri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ytheistic (many god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iggurats (temples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7" descr="cuneiform"/>
          <p:cNvPicPr/>
          <p:nvPr/>
        </p:nvPicPr>
        <p:blipFill>
          <a:blip r:embed="rId1"/>
          <a:stretch/>
        </p:blipFill>
        <p:spPr>
          <a:xfrm>
            <a:off x="1066680" y="2895480"/>
            <a:ext cx="2438640" cy="2416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ziggurat1"/>
          <p:cNvPicPr/>
          <p:nvPr/>
        </p:nvPicPr>
        <p:blipFill>
          <a:blip r:embed="rId2"/>
          <a:stretch/>
        </p:blipFill>
        <p:spPr>
          <a:xfrm>
            <a:off x="4876920" y="3505320"/>
            <a:ext cx="317160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gypt –Geography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ed along the Nile River in Egyp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table flooding helped far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r to the ocean called the DEL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5" descr="nile-river"/>
          <p:cNvPicPr/>
          <p:nvPr/>
        </p:nvPicPr>
        <p:blipFill>
          <a:blip r:embed="rId1"/>
          <a:stretch/>
        </p:blipFill>
        <p:spPr>
          <a:xfrm>
            <a:off x="685800" y="3352680"/>
            <a:ext cx="3333600" cy="3229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161624main_nile_river"/>
          <p:cNvPicPr/>
          <p:nvPr/>
        </p:nvPicPr>
        <p:blipFill>
          <a:blip r:embed="rId2"/>
          <a:stretch/>
        </p:blipFill>
        <p:spPr>
          <a:xfrm>
            <a:off x="4800600" y="3276720"/>
            <a:ext cx="312120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Government and Writing System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ocracy (monarchy based on religion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raohs (k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eroglyphics (picture writ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8" descr="pharaoh_3"/>
          <p:cNvPicPr/>
          <p:nvPr/>
        </p:nvPicPr>
        <p:blipFill>
          <a:blip r:embed="rId1"/>
          <a:stretch/>
        </p:blipFill>
        <p:spPr>
          <a:xfrm>
            <a:off x="1143000" y="3048120"/>
            <a:ext cx="2751120" cy="3809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Hieroglyphics"/>
          <p:cNvPicPr/>
          <p:nvPr/>
        </p:nvPicPr>
        <p:blipFill>
          <a:blip r:embed="rId2"/>
          <a:stretch/>
        </p:blipFill>
        <p:spPr>
          <a:xfrm>
            <a:off x="5410080" y="2700360"/>
            <a:ext cx="26384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ligion and Social Structure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ytheis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Pyramids for the d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mmific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lif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8" descr="188181_f260"/>
          <p:cNvPicPr/>
          <p:nvPr/>
        </p:nvPicPr>
        <p:blipFill>
          <a:blip r:embed="rId1"/>
          <a:stretch/>
        </p:blipFill>
        <p:spPr>
          <a:xfrm>
            <a:off x="304920" y="4038480"/>
            <a:ext cx="2476440" cy="2819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soci"/>
          <p:cNvPicPr/>
          <p:nvPr/>
        </p:nvPicPr>
        <p:blipFill>
          <a:blip r:embed="rId2"/>
          <a:stretch/>
        </p:blipFill>
        <p:spPr>
          <a:xfrm>
            <a:off x="4572000" y="1523880"/>
            <a:ext cx="4267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8:31:46Z</dcterms:created>
  <dc:creator>NYCDOE</dc:creator>
  <dc:description/>
  <dc:language>en-US</dc:language>
  <cp:lastModifiedBy>Ashley Casella</cp:lastModifiedBy>
  <dcterms:modified xsi:type="dcterms:W3CDTF">2012-05-07T02:50:43Z</dcterms:modified>
  <cp:revision>3</cp:revision>
  <dc:subject/>
  <dc:title>FQ:  What are the qualities of River Valley Civilizations? L84(RR4) </dc:title>
</cp:coreProperties>
</file>